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0A0-B538-4A2E-AA69-9D6AA25F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BC1-55AE-4098-AEBF-6FAB855E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91B-9162-4E29-B09F-C7D5DA6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8BE-A993-4A03-B9EE-A62BD92C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134-7B12-471C-A759-EE2E8270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421-11F2-4CD7-B413-1F5C53C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80C-7EEC-4ADC-B294-5752434E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E16-427C-4D9D-AEAC-671C2F19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7F3-16F3-4F9A-959D-FD7B162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D7F-6886-485B-A496-7E4AAF42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E28-F67C-4A34-A51C-50FF7239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C87-6648-46E6-8DBC-0B44734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A48B-EBC8-4D19-BF52-8BB1559D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Proposing Explanations for Fossil Footpr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Vicki H. Metz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Vanderbilt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Center for Science 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Arial"/>
              </a:rPr>
              <a:t>Teaching About Evolution and the Nature of Science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: National Academy of Science (1998) pp. 87-89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3623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Teaching About the Nature of Sci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latino Linotype"/>
              </a:rPr>
              <a:t>Fossil Foot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ou are a scientist studying fossils.  You find these footprints in your dig.  All the evidence you have is in the foss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lain what happened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cribe the size and/or nature of these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re all the footprints made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many animals wer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you reconstruct a series of events from the foss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can you defend your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evidence can you 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2743200" cy="654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34520" y="-4278600"/>
            <a:ext cx="149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52320" y="457200"/>
            <a:ext cx="5334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lain what happened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cribe the size and/or nature of these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re all the footprints made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many animals wer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you reconstruct a series of events from the foss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can you defend your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evidence can you 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 you want to dig fur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66680"/>
            <a:ext cx="63630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751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43200" y="38858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plain what happened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an you reconstruct a series of events from the foss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can you defend your interpre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evidence can you c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o you want to dig fur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208080"/>
            <a:ext cx="901044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208080"/>
            <a:ext cx="9010440" cy="642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990720"/>
            <a:ext cx="8763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962520"/>
            <a:ext cx="4953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In what directions did the animals mo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Did they change their speed or dire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hat might have changed the footprint patt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as the land level or irregul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as the soil moist or dry on the day the tracks were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In what kind of rocks were the prints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ere the sediments coarse or fine where the tracks were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hat kind of climate existed when these footprints were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25:18Z</dcterms:created>
  <dc:creator>Vicki H. Metzgar</dc:creator>
  <dc:description/>
  <dc:language>en-US</dc:language>
  <cp:lastModifiedBy>aketchum</cp:lastModifiedBy>
  <dcterms:modified xsi:type="dcterms:W3CDTF">2008-06-25T17:37:40Z</dcterms:modified>
  <cp:revision>3</cp:revision>
  <dc:subject/>
  <dc:title>Teaching About the Nature of Science</dc:title>
</cp:coreProperties>
</file>